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FE5-CDF5-416D-BA1C-0CFE97D0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A5C-AC27-4894-B2BD-82FA157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F3E-DB61-4D08-8C45-E4D86D0A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1F6-EBD1-4172-BC84-EA3BFCC3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063-3938-48E8-9461-32C3407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717-E091-4D36-A2F5-2A779A63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55A-1B5E-41C9-9745-07F9EC49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7F8-B9B9-48AE-B5E6-D643657D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0D1-6A26-4BF5-9D54-7CF618D6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978-5BB0-4701-AFB7-68599CD8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4CF-2109-46D9-8118-EADCC0D0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308-140F-4FD9-825D-9452DBD5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E239-F3F6-4B7F-8B85-32D369F4B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elfalt-als-chance.de/" TargetMode="External"/><Relationship Id="rId2" Type="http://schemas.openxmlformats.org/officeDocument/2006/relationships/hyperlink" Target="http://www.vielfalt-als-chance.de/index.php?id=296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Diversity in German Speak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ultural 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7160" y="541008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eph San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 Germa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600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elfalt-als-chance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ielfalt-als-chance.de/index.php?id=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enkel.com/SID-3FE70255-FF9BC587/about-henkel/rewards-and-voluntary-declarations-of-intent-33085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ofia.diplo.de/Vertretung/sofia/de/06/Kultureles_20Leben__in__Deutschland/Vielfal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uropa.eu/about-eu/countries/images/germany_map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iversity-charter.com/pics/logo_Charte_suedois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erman-business-etiquette.com/img/15-german-stereotypes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ssimilation is basically the integration of an ethnic group or a group of immigrants into anothe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489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t is believed that different ethnicities effect assimilation that is not quit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mmigrant group, whether they are poor or rich, will be clum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thnic group can assimilate into German culture easier if they speak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elieve that class lines determine whether or not a particular peoples will blend into the German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, it is actually the type of jobs the immigrants receive that will determine whether or not they assimilate or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amily only has a three year permit and receives work at a specialized job they are less likely to assimilat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group of immigrants in Germany is the Turks who make up 1.9 million of the German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urks adapt to the German language by combining their own language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6920" y="434340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of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rman Diversity Charter was created in December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joined the Charter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n more than 1,000 companies have jo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national company Henkel AG and Co. joined the cause of the Diversity Ch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of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ter is designed to promote diversity and eliminate prejudice in the work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charter a person of any race, gender, nationality, ethnicity, religion, disability, or age is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nt workers from around Germany now have stable jobs at workplaces that promote the Ch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mil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how many companies have joined the Charter’s ca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Charter of Diversity do companies have the right to be racist to their employe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rgest factor determining whether or not an immigrant group will assimilate to German culture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97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milation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1,000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Under the Charter companies are less racist and more accep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amily can speak German they will have a greater chance to assimilate to German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2:07Z</dcterms:created>
  <dc:creator>SCSadmin</dc:creator>
  <dc:description/>
  <dc:language>en-US</dc:language>
  <cp:lastModifiedBy>SCSadmin</cp:lastModifiedBy>
  <dcterms:modified xsi:type="dcterms:W3CDTF">2011-08-26T12:20:49Z</dcterms:modified>
  <cp:revision>6</cp:revision>
  <dc:subject/>
  <dc:title>Cultural Diversity in German Speaking Countries</dc:title>
</cp:coreProperties>
</file>